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531-D7A0-4666-98FB-13DD9B60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9CA-A4E7-48CE-B1B3-1B5A6C1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2998F-1B8B-4AEF-965E-DFEEC30D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694A-9292-436D-930D-8FC55FBF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D3F20-75E1-4829-BEF0-03CC6FB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2DD05-9601-4BFA-981A-70588E1C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5770-CD33-4BCF-9527-5694C49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3ECF6-E32E-4393-9CB8-18134B0F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47E40-BA38-4E05-B718-180C7A69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0C8B7-957C-43AB-BEBB-0F4D7E84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73700-2B48-4492-BB9A-6B6E70D3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C173F-63DD-42D7-9244-5AD6E85D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1A9-B48A-451B-A48E-6B1730F6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902F-EA10-4BC6-AD11-5B53820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5016-FCC2-4CC2-A712-2EB5D68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D7939-A8D0-4DC6-A260-3D48913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98EB3-1FF6-4BA8-BB39-5A76FFB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6EAEC-C3E2-47CA-8EE6-828B9D4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F426-B22E-45C2-90FB-B203F1E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789F3-DC93-413C-ABD8-D6473E55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9043B-1FB9-43C5-8692-E4AB5DAE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DD6F3-1F96-4238-905B-BE36F50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41F30-3958-47CB-85F9-E9FB23ED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83E-DB02-48EF-B25B-2C2E7A90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E4306-44AF-4A0F-B9B1-C2F2A72F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05954-413D-4A90-B3E6-3E211AB5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830AD-D76B-4568-AF6C-B0B4D572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5F1B-82D8-426B-90A4-5F9BB3EB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D3F58-DC82-4804-B8FA-28969EB3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295D-F915-49E9-85F3-B768471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1F94D-648D-4C47-BC85-CBF1D29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21DA-0531-4B4C-AB4D-B8E3887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A371-B26D-4313-9FCF-1F81BB7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193C-E1D2-45F4-B034-38F4E0F2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A595-FFEF-435F-B635-E736B001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DDBAE-51EF-4CCB-A312-B6FD5B8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4DD7B-088A-47B7-A35A-94C16862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29588-411D-4B99-BD0D-F205E680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5C70D-1CDD-4E1D-A8B5-9662D0DF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9AAAD-C401-40EB-A584-3323427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6713C-7B99-47F6-9A60-91B813A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2A541-1047-47B3-A39B-B59E67F8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B5206-CF3A-4137-A394-B827CF87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D6686-C068-4F19-87CF-E7A0D5A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F3D2F-5A45-4A51-9C56-40FF408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3C9D-43CF-4299-B740-1165906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C4594-032D-434D-B0A6-5F2040CC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2E2E7-79C4-4DE4-B114-65ECA3A1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D195C-DBD8-42CA-9EA1-C70C42F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70967-4340-4DF5-AA2C-33E57411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F0696-839D-49B6-B328-B37B0069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BBA4B-74F9-4445-8FF7-089CAF76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B3AEE-7A1E-42D5-97AB-3AB478DF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1B5C1-361B-4E3E-AA37-CE8B24F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CC8E1-22C5-46B6-B0B3-E148E5C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28F98-B406-4DBC-B0A9-6D54F8C6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44C6-BE48-45F4-AB96-4F41F63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1DE44-21F0-4B5B-8D14-CAAFFD6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0E7C9-4011-4F38-ACC6-4016A0F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D37F0-9E36-4F49-83F9-7253D7A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5D24E-9B60-4793-A2F8-6F24112A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53D81-425B-4A8A-B031-0EBAA705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513AC-590A-44D4-8E59-461A38D5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03A34-044F-4EFE-892A-1FB65B7F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B3BE3-E7C4-4272-9EA7-67606358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A0D13-DB5B-4C71-92B4-3208719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EF186-5DD8-4E05-8CC3-F9F76887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9AB5-3C7A-4422-A4E6-1B50846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2CFA0-7F87-42FE-A1A2-99A2FBA1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63D1D-A2EB-4310-A99A-90B74CA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38EF0-D34E-414E-BFBC-16D44DAF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7730D-EA3F-4FC6-BCB3-100284B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96FDB-F885-4588-AD2B-DB32E6F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2B45D-74FB-4FE5-B0D5-43A9E1E7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4AE2A-1579-4927-807B-3AF2A4A5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003C4-FD44-4889-9514-F90340E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F07FF-6D7F-4BF5-AE5D-F29DEECF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74A15-BE0A-42EC-BE15-7D73BCAD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22BF-5404-4993-8E6F-73F60A65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6EA73-0E33-4E11-B012-12D294F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338E6-DBAF-41B0-B732-F074C27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BB670-EEA1-44BF-A032-A1BE5B5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DD2F3-40C7-4171-B6B1-3525518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586F1-7B6C-42C5-8FB7-AA21B3D2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70D00-D8C4-42EE-9D52-79A1359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27F89-21CC-43D6-B4A8-1527F3A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8741D-24BC-469F-8629-3071EE7B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A280E-1B00-4A97-A7E3-AD0B848E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9DC6C-6B1F-4E8D-940E-A1E59C8F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1555-882B-4837-9427-4DA01206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95F2B-579B-4ED7-93BE-407D522E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668C7-6142-41A5-BF66-F3AFE9B8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BE5E1-2F64-4E54-9B18-26CE6C53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3BACC-DF6F-4898-9F9E-2354A25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2AA7B-1557-4941-9C7F-5641254C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5F8AF-8EDA-4452-BEB0-B3A342CA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99C87-F757-4E37-B2E0-78602408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5E406-AFF1-47E8-A233-EDD57B0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7CCA1-1C94-4E42-9ABA-CFDDEB7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3CBD8-CF28-4104-9AF4-1537D74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EA7-327C-439C-86D9-CDD8D8E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B3B91-A15A-4E0B-ABD2-F9D4B91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10930-81BE-41BA-AFD5-FB74B2D1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7807B-BD94-4430-9216-4B3E1EA7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E7154-6C9A-4753-94A5-5A84BCF5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6C0C2-E1FB-456B-ADDC-0D545E9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D0DDF-47F9-40DD-AA60-E43C705C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A3B05-187C-407F-A279-DA5DEE9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FA873-ABE1-4C60-A739-1B6828E8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ABBD9-9A4D-4F8D-9617-727DF225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2A29E-A412-4135-A28C-287D138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780-BC38-4AFB-BC56-45DE79A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B9BB-4821-43A1-B8E9-9C489556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AB906-3CBC-483D-8C0E-A58F7EE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8F2B2-3BDC-4CB1-A6F0-EB48AA2F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0E0B4-66C4-4CCE-B2BE-73D83D34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27906-61D5-416F-8B18-9E3D1225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C1F59-4535-4082-A74D-1E153E04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3016F-17C7-4283-A852-57BE451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1F271-7291-42CE-8647-CA28F79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037C3-238A-4A86-84F1-6764D4B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E32C2-68C3-4763-94D0-FFB097D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66635-B273-4765-8644-722E15B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2153-3C5F-434D-A206-DBF0F74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2964E-6F95-43D4-BBA4-5EFCD346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67C01-BFAF-4C30-8EF0-6D841B9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9B200-7551-4BDC-A70B-7672B24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24728-AFB7-4936-9B82-04733A4F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F63DF-E6CC-4763-8B93-1C733816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4B45D-E446-4DDC-85DD-7687A3B8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FB19D-9DCD-4E72-A2C9-4E9E2DF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BB3AB-F8C5-4965-AE69-4340961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55FA7-B69D-4CD0-AF3C-13B832C3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A2367B-DF6C-43FF-ABE4-92DE5B9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3E0-2C9E-4C2E-BD10-CD824EA3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D966E-E16D-4549-9988-A72A7A28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F069A-7380-4435-A4A7-23BB9DC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986BE-5453-4D47-892E-9D9AB4C3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9EB85-D16C-4476-95CE-B869FE6B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E2E24-CE7C-41CB-9B2A-9BE55607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F480A-F1A2-45BB-BE6E-E9EB6D9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98C44-9758-470C-8D77-5940B9BB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C2B7F-8A3E-4758-A785-EA4FC58A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41DF3-9B1D-4143-9AA6-62C0C3C7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7E050-3432-48A2-AE6E-BD0C55A5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5440-EBDC-4C39-9813-26272D3B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D0F2F-65DA-4867-AE84-48FE411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768C8E-F229-41A5-AF15-E972C6B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E905C-0E8F-4116-92F5-55E8CF33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C02FC-895F-461B-A25C-3FF6F24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8908D-6BD1-476D-A0D5-DA28EC27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67D30-C462-4DFC-A93A-5525169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EA8BD-F20B-49D2-9746-AD073EA8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F6D55-C1D5-4E03-9F6D-81D2E795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F6CE2-697B-407B-867F-FE1946F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12A1AB-DC68-445A-8304-5499C9BB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DD83-4E7E-4FEC-A47A-FB5D7294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6AD4A-BD24-4AD5-80DD-280B8653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71D83-AC65-4AC7-A87C-0D209E50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94A29-B2CB-498A-8152-A28DC4A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3BFD1-C28E-4F29-B249-24643232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EF3FA-892A-469B-AFCE-9CB3F99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C9006-BF37-4654-B7E1-5654A83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B5F369-37B4-4D8A-9D6C-F5483C3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3920D-16D8-4AF2-8EE8-650287CF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4AFCC-3066-4B05-B4EF-13EE648A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7A789-AE76-450A-B46C-5B7DC5EC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E595-F677-4957-93C6-37F2AA8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356CF-8E3B-4769-AF5D-14EA566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1C25A-BDC9-4D8C-BBA3-08164765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F44C8-B668-4AC4-909D-8DF6068E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2D7B6-F2D4-403D-9986-689F533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A0B6-A777-4DCF-8DA4-95BBDA0D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A845-313D-424E-B069-C034A9BD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D624-075B-438F-AB95-E273D6B1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DDC-415E-454F-A2E2-871DBF9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A089-E26E-4E87-ACE6-BB4B67A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4FD0-EC02-4AD0-8AF7-46D6EE0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9780-D146-4659-885B-66EFC55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FCC5-3FF6-4FA2-B696-E3E4093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6EDF-D091-4275-B84A-2D6F720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583D-60C0-48D5-AF0F-1DF97E68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A23F-3D26-40AC-BEE5-A1152649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3CF4C-7852-48ED-A7FA-B1AAC88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8B10-DF9A-484D-B5E9-95C73281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B7F1-1AE0-407C-820E-3EF3CCAD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933-20BB-44E2-A773-945A74B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D1CA-B21B-49D7-9DD5-2145690C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39CB-FF2D-4DA2-B600-19E7F73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3C63F-F07C-4EEB-B18B-6ABAE7F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9A726-528C-4A06-B4A8-C03D8B4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9F97-A3AD-47C9-A25F-55514C4F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4329-DF9E-4290-821E-A8685993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2673-D759-48F5-ACB1-B3F38A8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DA92-D680-400F-8FA5-355AB429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B713-2977-4407-9837-4B17CB8D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5A28-C267-417E-B0DE-B6FB6A56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868-803E-430D-ADA5-E27C67BD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8D4E-07AB-4A4C-9F2A-531D667F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1124-BC0B-4EC7-A44A-D4AFE5B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687C-96C6-4A4B-91EF-D002D69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A7E4-CE49-45A3-BFD5-09B6DAC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CC7E-25C4-4E8A-9668-22F8FAB1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D04A-B3A6-4C84-AA6A-CC7A625A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5369-D8D5-4AAE-9E8C-DBE87BC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4256-63B5-4FB8-B085-31B0CB4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AD1C-94C3-4F7D-A4F4-2F3FAE2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E9DF-9784-4AA2-BAD1-E0663C48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BA4-C6D2-4850-98F1-FD62C0A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A096-3331-4D14-BD4C-2C024269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2898-A7E3-4EAC-82B4-BCE95F2C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73B44-7E85-4ADB-9993-95834A36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8425-83B3-4359-B829-E7FFA24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D92F-1991-4680-947F-2DC11AF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820B-4FEB-4F53-8129-7BF063A4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AAE7D-2698-461B-9DA9-15230ED8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3B4E4-0CF4-4F3F-B816-D38B09D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933C-74CE-48A6-8AFF-F0A48E9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275C-62E8-4341-A716-1E2765A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010-1D1A-44B4-A34B-F7FF9CD4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BA19C-0604-450C-A0A1-1FF86FB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9284-C539-4483-B981-C7D7F6E6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B7F02-5C5B-4449-BF31-B1BD4D18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ED599-C48E-4D9A-B157-BB1A6AC2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54F22-245F-42A3-8347-EB5DAB8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BB89-4F0C-4C37-A68F-DDA1C58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7CDCB-9C05-4B26-88B2-F4E1E32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CCFB-3BFB-4499-94DE-992BB8D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6F61-8A20-40C0-987E-2E5C2970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FBF3-C667-4DBC-9430-C49984E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CAA-2139-4875-8EAC-9B37EB03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0119-74AB-4F32-A103-6F58E92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5347-6F17-4D99-9086-D026B73D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DA0A2-54DE-41BF-BFD1-7BF9EA18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6F48-A992-4994-9099-9EE690DA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41DE4-6780-4F7D-AA3E-F8874141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E5132-F625-4214-BC01-2E9B6193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4954-FAA6-40F3-A56A-331E678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18B59-E60A-45ED-A91F-ACE8760E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3CEC-B702-4410-AB87-5FBBC33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DB59-583B-4421-9AFB-445B3993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0F5-DC4B-4F11-A820-255CFA1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F2444-43DD-4A47-9381-48EFC3F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C931-EE8C-44BC-A38E-49E1E12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7458-AB0B-42A2-AFEF-E34E1A0A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AC2C4-476C-45F6-9FA5-23B9830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E0BB-CE9D-423A-B507-B16BC765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F05C-21F6-4162-8D4B-4791236B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1C790-2966-4F5F-AE85-51705533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2C88A-B954-4194-9908-17D1DC0B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BAB48-95E4-49C4-940E-F8D363E9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0E907-3519-44F1-92CD-275C90B3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4E9-AAD4-40F1-9C3D-DA315ADD8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F5F1-CE2B-448D-A214-E05AB1B8D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C0A-A5BB-4C9F-A221-A7D27D831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4EE-28F3-41ED-9ABA-9F6B2CA35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80EC-A9CF-44AF-AA60-B05980B87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AD8-E086-489E-AA03-93F53B21C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4872-E3A1-46D8-ADD5-73AEB8E4DD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EF7-232D-4938-B0B5-9F1C170219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668F-5730-4F5B-B5B8-01BD924F8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BA81-A54A-4A53-B239-F608E225A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288-50E3-4F38-9A67-FFA65D109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E27A-37B1-436F-B80C-5400C073EC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EA6-9CD5-4872-A7EA-98CC384673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B487-03BD-4E3D-A2DE-1A12F9ADD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279-7391-4908-974A-F020AAF68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2FB3-4794-41A0-8BEB-C2B6503CE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461-7CFC-4168-B391-3BEBC484A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7E1A-FC3F-42DE-B7D1-A59A5AA4B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5383-8627-4CE0-8C9C-84E5DD86DD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18E-A8FF-494C-BE28-9AAD2143A1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2A0-DBB4-417F-8987-BE386DDC8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7E02-CC09-406F-BFDA-6F5416030C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F42-F283-455E-A2AB-9EF42D3AE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AEE-241D-4FD3-90BE-6FCB7FB6AE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0B2E-8DFD-47FC-85D7-35DF1CD2E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1A79-0C03-4226-B646-36C4B54AF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B45-03F1-4BA1-B1C7-FA2D80E65B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DFDD-D7D3-4AB9-86D0-6E6ED686D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0676-93B8-4413-97F8-025C04363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E7FA-5068-42D9-9BF6-42AA0A74D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AB37-8A59-46A8-97F2-5DBC905BB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7F1-5115-43F1-9EDF-BF2C2564F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6253-9F7E-4386-9BA1-6EBBC1959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BA2-5508-485C-96E6-4F52AF048B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0B9A-8CB8-4553-A462-FB33C51E05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B83-0289-4855-8F99-D98A806F11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624-2BD0-4ADB-860B-20CDC8C1F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EBD5-5C98-4E52-AEFA-C5B239B05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296-FFBC-462E-8E9E-25DFD7D5A5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D5EA-FE65-4A52-8CD8-1B94E2266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7520" y="3060720"/>
            <a:ext cx="90489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04760" y="1490760"/>
            <a:ext cx="8934480" cy="3876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203640" y="3170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796000" y="315612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317080" y="315612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219640" y="4998960"/>
            <a:ext cx="504720" cy="3049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761160" y="4998960"/>
            <a:ext cx="5047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95200" y="2138400"/>
            <a:ext cx="8553600" cy="2581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258920" y="3716280"/>
            <a:ext cx="504720" cy="393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258920" y="4164120"/>
            <a:ext cx="50472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42840" y="2190600"/>
            <a:ext cx="9056880" cy="2476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971640" y="2722680"/>
            <a:ext cx="504720" cy="393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971640" y="3730680"/>
            <a:ext cx="50472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61920" y="835200"/>
            <a:ext cx="9018720" cy="5741640"/>
          </a:xfrm>
          <a:prstGeom prst="rect">
            <a:avLst/>
          </a:prstGeom>
          <a:ln w="0">
            <a:noFill/>
          </a:ln>
        </p:spPr>
      </p:pic>
      <p:pic>
        <p:nvPicPr>
          <p:cNvPr id="1049" name="图片 7170" descr=""/>
          <p:cNvPicPr/>
          <p:nvPr/>
        </p:nvPicPr>
        <p:blipFill>
          <a:blip r:embed="rId2"/>
          <a:stretch/>
        </p:blipFill>
        <p:spPr>
          <a:xfrm>
            <a:off x="1692360" y="5891040"/>
            <a:ext cx="1812960" cy="5590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7171" descr=""/>
          <p:cNvPicPr/>
          <p:nvPr/>
        </p:nvPicPr>
        <p:blipFill>
          <a:blip r:embed="rId3"/>
          <a:stretch/>
        </p:blipFill>
        <p:spPr>
          <a:xfrm>
            <a:off x="4095720" y="5891040"/>
            <a:ext cx="1812960" cy="5590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7172" descr=""/>
          <p:cNvPicPr/>
          <p:nvPr/>
        </p:nvPicPr>
        <p:blipFill>
          <a:blip r:embed="rId4"/>
          <a:stretch/>
        </p:blipFill>
        <p:spPr>
          <a:xfrm>
            <a:off x="6458040" y="5891040"/>
            <a:ext cx="18129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071720" y="2271600"/>
            <a:ext cx="7000560" cy="2314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8194" descr=""/>
          <p:cNvPicPr/>
          <p:nvPr/>
        </p:nvPicPr>
        <p:blipFill>
          <a:blip r:embed="rId2"/>
          <a:stretch/>
        </p:blipFill>
        <p:spPr>
          <a:xfrm>
            <a:off x="1332000" y="3933720"/>
            <a:ext cx="1871640" cy="55908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8195" descr=""/>
          <p:cNvPicPr/>
          <p:nvPr/>
        </p:nvPicPr>
        <p:blipFill>
          <a:blip r:embed="rId3"/>
          <a:stretch/>
        </p:blipFill>
        <p:spPr>
          <a:xfrm>
            <a:off x="3708360" y="3946680"/>
            <a:ext cx="1871640" cy="55872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8196" descr=""/>
          <p:cNvPicPr/>
          <p:nvPr/>
        </p:nvPicPr>
        <p:blipFill>
          <a:blip r:embed="rId4"/>
          <a:stretch/>
        </p:blipFill>
        <p:spPr>
          <a:xfrm>
            <a:off x="6099120" y="3933720"/>
            <a:ext cx="1871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2:2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